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8C9C9-64F0-412A-B5E4-2879A3EE3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91D87-5461-4314-B8E1-6FB7753C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5D103-2E76-4E74-A758-62DC8DB06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919E4-AADD-4008-A241-F24476B57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80561-F8C4-42A2-A305-E2D032542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9EDFE-0206-4DB8-8817-F7B8F0F30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48149-975F-4B7F-A6F3-6CB1AEB4C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7781F-2B19-4576-A704-BB33954E2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711A2-81C8-4320-9410-BFF59F278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8EA75-C7F0-49C9-83DC-6EF53E516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68F3-47C2-4367-8030-1EDA3E8FD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B61D5-B2AC-4548-B1B3-12925FFBB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DC1F7-0825-4047-B515-A910D6C59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95DD8-0AFE-4E30-AAD7-63FDFD750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71A26-9452-41A5-918F-89537A744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5B966-86F1-4BE7-9865-49D05D2CC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F277A-CF2D-48A3-87C9-40B9CBD76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D3F0-E404-422E-87B1-DF4928097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A773-4BB2-44D0-AB0E-90449EDC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D975E-AEAD-464F-94CB-D71C6DEB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5117-40E9-4D79-B341-FFDDAFBBB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540D-A338-46EC-B085-1CE8AE8A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A0E6B-5C4D-4C87-B72C-98AEB88B4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1A2C-F805-49FF-AAB0-4C8D5635F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04760"/>
            <a:ext cx="7772400" cy="38098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57913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57913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57913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6571-C93D-4304-A3FB-997216B72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102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4"/>
          </p:nvPr>
        </p:nvSpPr>
        <p:spPr>
          <a:xfrm>
            <a:off x="685800" y="57834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57834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57834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7EDD-BC98-40BC-81EF-4287AC157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ir Sho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ok Into the Lives of Charac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ana Jones</a:t>
            </a:r>
            <a:endParaRPr b="0" lang="en-US" sz="4400" spc="-1" strike="noStrike">
              <a:solidFill>
                <a:srgbClr val="000000"/>
              </a:solidFill>
              <a:latin typeface="Times New Roman"/>
            </a:endParaRPr>
          </a:p>
        </p:txBody>
      </p:sp>
      <p:sp>
        <p:nvSpPr>
          <p:cNvPr id="110"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na Jones is a brilliant, world famous professor of archaeology and history that travels the world for adventure. Unfortunately for Dr. Jones, his adventures often mean that trouble is not too far behind. However, his brains and ability to think quick help him to overcome great obstacles. </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1320840" y="1905120"/>
            <a:ext cx="25398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ddin</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3000"/>
          </a:bodyPr>
          <a:p>
            <a:pPr marL="284400" indent="-2844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ddin is a poor young man living on the streets, stealing to eat. Then, one chance meeting with a genie changes his life. With the help of the genie, Aladdin is able to win the heart of Princess Jasmine and defeat the evil Jaffar. </a:t>
            </a:r>
            <a:endParaRPr b="0" lang="en-US" sz="2400" spc="-1" strike="noStrike">
              <a:solidFill>
                <a:srgbClr val="000000"/>
              </a:solidFill>
              <a:latin typeface="Times New Roman"/>
            </a:endParaRPr>
          </a:p>
        </p:txBody>
      </p:sp>
      <p:pic>
        <p:nvPicPr>
          <p:cNvPr id="114" name="" descr=""/>
          <p:cNvPicPr/>
          <p:nvPr/>
        </p:nvPicPr>
        <p:blipFill>
          <a:blip r:embed="rId2"/>
          <a:stretch/>
        </p:blipFill>
        <p:spPr>
          <a:xfrm>
            <a:off x="685800" y="2671920"/>
            <a:ext cx="380988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116" name="PlaceHolder 2"/>
          <p:cNvSpPr>
            <a:spLocks noGrp="1"/>
          </p:cNvSpPr>
          <p:nvPr>
            <p:ph/>
          </p:nvPr>
        </p:nvSpPr>
        <p:spPr>
          <a:xfrm>
            <a:off x="4647960" y="1752480"/>
            <a:ext cx="3809880" cy="3810240"/>
          </a:xfrm>
          <a:prstGeom prst="rect">
            <a:avLst/>
          </a:prstGeom>
          <a:noFill/>
          <a:ln w="0">
            <a:noFill/>
          </a:ln>
        </p:spPr>
        <p:txBody>
          <a:bodyPr lIns="90000" rIns="90000" tIns="46800" bIns="46800" anchor="t">
            <a:normAutofit fontScale="73000"/>
          </a:bodyPr>
          <a:p>
            <a:pPr marL="250200" indent="-250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rek is an ogre that lives alone in the woods, has no friends, and likes it like that. He is seen as being scary and dangerous but is really harmless. However, things change when he is asked to rescue Princess Fiona for the King, who is actually evil. Now Shrek must defeat the King with the help of his new friends Donkey and Princess Fiona.</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55760" y="1905120"/>
            <a:ext cx="24699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ion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3 characteristics of this character (use adjectiv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rite 2 sentences about what it would be like to live this character’s lif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ry Potter</a:t>
            </a:r>
            <a:endParaRPr b="0" lang="en-US" sz="4400" spc="-1" strike="noStrike">
              <a:solidFill>
                <a:srgbClr val="000000"/>
              </a:solidFill>
              <a:latin typeface="Times New Roman"/>
            </a:endParaRPr>
          </a:p>
        </p:txBody>
      </p:sp>
      <p:sp>
        <p:nvSpPr>
          <p:cNvPr id="89"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9000"/>
          </a:bodyPr>
          <a:p>
            <a:pPr marL="270720" indent="-2707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y Potter is a young wizard-in-training, who is trying to deal with with his new powers, cruel family, and his dangerous enemy Voldemort. Luckily, Harry has two great friends, Ron and Hermione to help him in his journey through life.</a:t>
            </a:r>
            <a:endParaRPr b="0" lang="en-US" sz="2400" spc="-1" strike="noStrike">
              <a:solidFill>
                <a:srgbClr val="000000"/>
              </a:solidFill>
              <a:latin typeface="Times New Roman"/>
            </a:endParaRPr>
          </a:p>
        </p:txBody>
      </p:sp>
      <p:pic>
        <p:nvPicPr>
          <p:cNvPr id="90" name="" descr=""/>
          <p:cNvPicPr/>
          <p:nvPr/>
        </p:nvPicPr>
        <p:blipFill>
          <a:blip r:embed="rId2"/>
          <a:stretch/>
        </p:blipFill>
        <p:spPr>
          <a:xfrm>
            <a:off x="685800" y="1949400"/>
            <a:ext cx="3809880" cy="372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uce Wayne (AKA Batman)</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ce Wayne is a billionaire that lives a double life as a business man and superhero. After witnessing the death of his parents, Bruce Wayne vowed to fight crime and make Gotham City a safe place. Unfortunately, the villains he must face are evil and dangerous. </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230480" y="1905120"/>
            <a:ext cx="27208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tty Suarez</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y is an average girl working in the harsh world of fashion. While the people in her office may be cruel, Betty has a supportive and loving family. She may not be the prettiest girl, but her intelligence, dedication, and good-hearted nature make her joy to be around.</a:t>
            </a:r>
            <a:endParaRPr b="0" lang="en-US" sz="2400" spc="-1" strike="noStrike">
              <a:solidFill>
                <a:srgbClr val="000000"/>
              </a:solidFill>
              <a:latin typeface="Times New Roman"/>
            </a:endParaRPr>
          </a:p>
        </p:txBody>
      </p:sp>
      <p:pic>
        <p:nvPicPr>
          <p:cNvPr id="96" name="" descr=""/>
          <p:cNvPicPr/>
          <p:nvPr/>
        </p:nvPicPr>
        <p:blipFill>
          <a:blip r:embed="rId2"/>
          <a:stretch/>
        </p:blipFill>
        <p:spPr>
          <a:xfrm>
            <a:off x="1162080" y="1905120"/>
            <a:ext cx="285732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ack Morris</a:t>
            </a:r>
            <a:endParaRPr b="0" lang="en-US" sz="4400" spc="-1" strike="noStrike">
              <a:solidFill>
                <a:srgbClr val="000000"/>
              </a:solidFill>
              <a:latin typeface="Times New Roman"/>
            </a:endParaRPr>
          </a:p>
        </p:txBody>
      </p:sp>
      <p:sp>
        <p:nvSpPr>
          <p:cNvPr id="98"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9000"/>
          </a:bodyPr>
          <a:p>
            <a:pPr marL="270720" indent="-2707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ck is a popular high school student that has a difficult time staying out of trouble. While he’s a good person and great friend, for some reason he never learns his lesson. Zack is quick-witted and can always come up with a plan to solve a problem.</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746280" y="1905120"/>
            <a:ext cx="368748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cked Witch of the East</a:t>
            </a:r>
            <a:endParaRPr b="0" lang="en-US" sz="4400" spc="-1" strike="noStrike">
              <a:solidFill>
                <a:srgbClr val="000000"/>
              </a:solidFill>
              <a:latin typeface="Times New Roman"/>
            </a:endParaRPr>
          </a:p>
        </p:txBody>
      </p:sp>
      <p:sp>
        <p:nvSpPr>
          <p:cNvPr id="101" name="PlaceHolder 2"/>
          <p:cNvSpPr>
            <a:spLocks noGrp="1"/>
          </p:cNvSpPr>
          <p:nvPr>
            <p:ph/>
          </p:nvPr>
        </p:nvSpPr>
        <p:spPr>
          <a:xfrm>
            <a:off x="4647960" y="1676520"/>
            <a:ext cx="3809880" cy="4038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is evil, demanding, and in need of beautiful Ruby slippers. After watching her sister, the Wicked Witch of the West, die from Dorothy’s house landing on her, the Wicked Witch of the East is out for revenge. Furthermore, she believes that Dorothy has stolen the Ruby slippers that should belong to her.</a:t>
            </a:r>
            <a:endParaRPr b="0" lang="en-US" sz="2400" spc="-1" strike="noStrike">
              <a:solidFill>
                <a:srgbClr val="000000"/>
              </a:solidFill>
              <a:latin typeface="Times New Roman"/>
            </a:endParaRPr>
          </a:p>
        </p:txBody>
      </p:sp>
      <p:pic>
        <p:nvPicPr>
          <p:cNvPr id="102" name="" descr=""/>
          <p:cNvPicPr/>
          <p:nvPr/>
        </p:nvPicPr>
        <p:blipFill>
          <a:blip r:embed="rId2"/>
          <a:stretch/>
        </p:blipFill>
        <p:spPr>
          <a:xfrm>
            <a:off x="685800" y="2406600"/>
            <a:ext cx="3809880" cy="28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nah Montana</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ah Montana is a small time girl, living a double-life as an average student and pop star. As Miley, she is a normal high school student dealing with the everyday problems of growing up. As Hannah Montana, she is a beloved super famous singer.</a:t>
            </a:r>
            <a:endParaRPr b="0" lang="en-US" sz="2400" spc="-1" strike="noStrike">
              <a:solidFill>
                <a:srgbClr val="000000"/>
              </a:solidFill>
              <a:latin typeface="Times New Roman"/>
            </a:endParaRPr>
          </a:p>
        </p:txBody>
      </p:sp>
      <p:pic>
        <p:nvPicPr>
          <p:cNvPr id="105" name="" descr=""/>
          <p:cNvPicPr/>
          <p:nvPr/>
        </p:nvPicPr>
        <p:blipFill>
          <a:blip r:embed="rId2"/>
          <a:stretch/>
        </p:blipFill>
        <p:spPr>
          <a:xfrm>
            <a:off x="1155600" y="1905120"/>
            <a:ext cx="287028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y Bolton</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y is a high school basketball player seeking a scholarship to college. He is in love with a new girl named Gabriella and has a secret passion for singing. Troy is able to express his love for music in the auditions for the high school musical, but now must decide if music is more important than the big game.</a:t>
            </a:r>
            <a:endParaRPr b="0" lang="en-US" sz="2400" spc="-1" strike="noStrike">
              <a:solidFill>
                <a:srgbClr val="000000"/>
              </a:solidFill>
              <a:latin typeface="Times New Roman"/>
            </a:endParaRPr>
          </a:p>
        </p:txBody>
      </p:sp>
      <p:pic>
        <p:nvPicPr>
          <p:cNvPr id="108" name="" descr=""/>
          <p:cNvPicPr/>
          <p:nvPr/>
        </p:nvPicPr>
        <p:blipFill>
          <a:blip r:embed="rId2"/>
          <a:stretch/>
        </p:blipFill>
        <p:spPr>
          <a:xfrm>
            <a:off x="1316160" y="1905120"/>
            <a:ext cx="254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12:17:03Z</dcterms:created>
  <dc:creator>Middle School</dc:creator>
  <dc:description/>
  <dc:language>en-US</dc:language>
  <cp:lastModifiedBy>Kristina E. Nied User</cp:lastModifiedBy>
  <cp:lastPrinted>2008-06-24T14:04:46Z</cp:lastPrinted>
  <dcterms:modified xsi:type="dcterms:W3CDTF">2009-07-31T01:44:56Z</dcterms:modified>
  <cp:revision>10</cp:revision>
  <dc:subject/>
  <dc:title>In Their Shoes</dc:title>
</cp:coreProperties>
</file>